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F0B2-3AB6-474D-8004-6C4DD33A1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3266-81E3-4A8E-BCB5-5B10E97C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0D1E-1217-4DED-96C2-5A122254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7CBE-1FE4-4E7F-BBD8-4C8D2814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E6B7-F83B-43CE-97F1-3100720BB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C558-C5FA-4DB6-AE39-C45BFBD8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07AD-BECB-4AFC-B190-E021FC74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3262-4527-4BC1-A9E4-9A8C73AF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8D84-C31A-43E8-AD67-8B4A60BE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3B8D-4996-471E-B358-77D054A0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A8DB-46B0-4AD0-901F-918276E1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CCD2-6FF4-4D1F-87C2-8CA5DA0F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6B66-A564-4847-B253-2D9DA487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DC3A-51A3-4EC9-84CE-C1B70594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13B4-1036-40DF-87CC-A72B5806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5BB4-5B3E-491F-A158-62380370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C9E3-CD22-4D40-B094-50C6F932E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E519-6E32-4E13-B711-9BC55E51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2A54-FF3B-414F-B70D-85FBF60C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A7F4-B791-490F-A018-CEA31703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55F2-E8BF-4251-8799-BBD682F0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9171-129F-4266-AB65-A9F7CD12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E1FA-EB97-4810-A928-A325D677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4478-B97F-4D9A-A275-BD8090B7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0261-F45C-4585-8B49-8E8EC558A9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0CEE-C6CE-4E91-85D0-8FC492F942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7.xml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8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5ffff"/>
                </a:solidFill>
                <a:latin typeface="Tahoma"/>
              </a:rPr>
              <a:t>Context Clues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y Tim Co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lucky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y again.  Click on the button to return to the sentenc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4419720" y="49528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eat 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on the button to continu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4267080" y="50292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Dad likes to </a:t>
            </a:r>
            <a:r>
              <a:rPr b="0" lang="en-US" sz="3600" spc="-1" strike="noStrike" u="sng">
                <a:solidFill>
                  <a:srgbClr val="e5ffff"/>
                </a:solidFill>
                <a:uFillTx/>
                <a:latin typeface="Tahoma"/>
              </a:rPr>
              <a:t>relax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on the sofa after he takes us swimming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A.  jum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B.  r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C.  sle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lucky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y again.  Click on the button to return to the sentenc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4419720" y="49528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eat 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on the button to continu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4267080" y="50292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Our team must be </a:t>
            </a:r>
            <a:r>
              <a:rPr b="0" lang="en-US" sz="3600" spc="-1" strike="noStrike" u="sng">
                <a:solidFill>
                  <a:srgbClr val="e5ffff"/>
                </a:solidFill>
                <a:uFillTx/>
                <a:latin typeface="Tahoma"/>
              </a:rPr>
              <a:t>united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, if we want to win the championship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A.  working toge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B.  awak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C.  dressed 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lucky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y again.  Click on the button to return to the sentenc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4419720" y="49528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eat 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on the button to continu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4267080" y="50292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 remember that type of butterfly by its </a:t>
            </a:r>
            <a:r>
              <a:rPr b="0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distinct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markings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A.  yell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B.  spec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C.  dir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lucky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y again.  Click on the button to return to the sentenc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4419720" y="49528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re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the context clues to make the best choice for each word’s mea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1.spi.9 L2  Determine word mean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ough the use of contex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u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eat 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on the button to continu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4267080" y="50292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he balloon </a:t>
            </a:r>
            <a:r>
              <a:rPr b="0" lang="en-US" sz="3600" spc="-1" strike="noStrike" u="sng">
                <a:solidFill>
                  <a:srgbClr val="e5ffff"/>
                </a:solidFill>
                <a:uFillTx/>
                <a:latin typeface="Tahoma"/>
              </a:rPr>
              <a:t>burst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as it brushed against the brick wall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A.  flew hig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B.  got aw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C.  popp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lucky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y again.  Click on the button to return to the sentenc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4419720" y="49528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eat 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on the button to continu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4267080" y="50292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Some Native Americans made their </a:t>
            </a:r>
            <a:r>
              <a:rPr b="0" lang="en-US" sz="3600" spc="-1" strike="noStrike" u="sng">
                <a:solidFill>
                  <a:srgbClr val="e5ffff"/>
                </a:solidFill>
                <a:uFillTx/>
                <a:latin typeface="Tahoma"/>
              </a:rPr>
              <a:t>dwellings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in the rocks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A.  sho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B.  blank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 h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lucky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y again.  Click on the button to return to the sentenc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4419720" y="49528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eat 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on the button to continu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4267080" y="50292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he tarantula spider has tiny </a:t>
            </a:r>
            <a:r>
              <a:rPr b="0" lang="en-US" sz="3600" spc="-1" strike="noStrike" u="sng">
                <a:solidFill>
                  <a:srgbClr val="e5ffff"/>
                </a:solidFill>
                <a:uFillTx/>
                <a:latin typeface="Tahoma"/>
              </a:rPr>
              <a:t>bristles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on its legs that can prick its enemy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A.  spo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 sharp hai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 tee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lucky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y again.  Click on the button to return to the sentenc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419720" y="49528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eat 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on the button to continu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50292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Most small children are </a:t>
            </a:r>
            <a:r>
              <a:rPr b="0" lang="en-US" sz="3600" spc="-1" strike="noStrike" u="sng">
                <a:solidFill>
                  <a:srgbClr val="e5ffff"/>
                </a:solidFill>
                <a:uFillTx/>
                <a:latin typeface="Tahoma"/>
              </a:rPr>
              <a:t>forbidden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to cross the street without an adult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A.  help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B.  told not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C.  forc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he </a:t>
            </a:r>
            <a:r>
              <a:rPr b="0" lang="en-US" sz="3600" spc="-1" strike="noStrike" u="sng">
                <a:solidFill>
                  <a:srgbClr val="e5ffff"/>
                </a:solidFill>
                <a:uFillTx/>
                <a:latin typeface="Tahoma"/>
              </a:rPr>
              <a:t>boulder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rolled down the hill and blocked the road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 a large ro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 a per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 a small ro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lucky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y again.  Click on the button to return to the sentenc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419720" y="49528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eat 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on the button to continu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267080" y="50292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he artist created a </a:t>
            </a:r>
            <a:r>
              <a:rPr b="0" lang="en-US" sz="3600" spc="-1" strike="noStrike" u="sng">
                <a:solidFill>
                  <a:srgbClr val="e5ffff"/>
                </a:solidFill>
                <a:uFillTx/>
                <a:latin typeface="Tahoma"/>
              </a:rPr>
              <a:t>sculpture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out of clay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 a costu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 a post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 a stat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lucky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y again.  Click on the button to return to the sentenc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49528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eat 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End 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 flipH="1">
            <a:off x="4190400" y="5029200"/>
            <a:ext cx="75960" cy="76320"/>
          </a:xfrm>
          <a:custGeom>
            <a:avLst/>
            <a:gdLst>
              <a:gd name="textAreaLeft" fmla="*/ 4680 w 75960"/>
              <a:gd name="textAreaRight" fmla="*/ 71280 w 7596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21600" h="21702">
                <a:moveTo>
                  <a:pt x="0" y="0"/>
                </a:moveTo>
                <a:lnTo>
                  <a:pt x="21600" y="0"/>
                </a:lnTo>
                <a:lnTo>
                  <a:pt x="21600" y="21702"/>
                </a:lnTo>
                <a:lnTo>
                  <a:pt x="0" y="21702"/>
                </a:lnTo>
                <a:close/>
              </a:path>
              <a:path fill="lightenLess" w="21600" h="217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2">
                <a:moveTo>
                  <a:pt x="21600" y="0"/>
                </a:moveTo>
                <a:lnTo>
                  <a:pt x="21600" y="21702"/>
                </a:lnTo>
                <a:lnTo>
                  <a:pt x="20200" y="20302"/>
                </a:lnTo>
                <a:lnTo>
                  <a:pt x="20200" y="1400"/>
                </a:lnTo>
                <a:close/>
              </a:path>
              <a:path fill="darkenLess" w="21600" h="21702">
                <a:moveTo>
                  <a:pt x="21600" y="21702"/>
                </a:moveTo>
                <a:lnTo>
                  <a:pt x="0" y="21702"/>
                </a:lnTo>
                <a:lnTo>
                  <a:pt x="1400" y="20302"/>
                </a:lnTo>
                <a:lnTo>
                  <a:pt x="20200" y="20302"/>
                </a:lnTo>
                <a:close/>
              </a:path>
              <a:path fill="lighten" w="21600" h="21702">
                <a:moveTo>
                  <a:pt x="0" y="217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2"/>
                </a:lnTo>
                <a:close/>
              </a:path>
              <a:path fill="darken" w="21600" h="21702">
                <a:moveTo>
                  <a:pt x="3794" y="3844"/>
                </a:moveTo>
                <a:lnTo>
                  <a:pt x="17806" y="10851"/>
                </a:lnTo>
                <a:lnTo>
                  <a:pt x="3794" y="17857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lucky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y again.  Click on the button to return to the sentenc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4419720" y="49528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eat 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on the button to continu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4267080" y="50292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racy buttoned her </a:t>
            </a:r>
            <a:r>
              <a:rPr b="0" lang="en-US" sz="3600" spc="-1" strike="noStrike" u="sng">
                <a:solidFill>
                  <a:srgbClr val="e5ffff"/>
                </a:solidFill>
                <a:uFillTx/>
                <a:latin typeface="Tahoma"/>
              </a:rPr>
              <a:t>cardigan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to keep warm at the game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A.  swe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B.  paja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C.  boo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lucky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y again.  Click on the button to return to the sentenc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4419720" y="49528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eat 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on the button to continue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4267080" y="50292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he autumn morning </a:t>
            </a:r>
            <a:r>
              <a:rPr b="0" lang="en-US" sz="3600" spc="-1" strike="noStrike" u="sng">
                <a:solidFill>
                  <a:srgbClr val="e5ffff"/>
                </a:solidFill>
                <a:uFillTx/>
                <a:latin typeface="Tahoma"/>
              </a:rPr>
              <a:t>dew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left the playground damp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A.  clumps of sn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B.  pieces of 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C.  drops of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2T02:15:25Z</dcterms:created>
  <dc:creator> </dc:creator>
  <dc:description/>
  <dc:language>en-US</dc:language>
  <cp:lastModifiedBy> </cp:lastModifiedBy>
  <dcterms:modified xsi:type="dcterms:W3CDTF">2006-07-14T15:46:48Z</dcterms:modified>
  <cp:revision>14</cp:revision>
  <dc:subject/>
  <dc:title>Context Clues</dc:title>
</cp:coreProperties>
</file>